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0AE-DAE4-44CC-AAFA-D68A2466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A03-E061-44B5-9809-B7BEFA41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221-6B55-4336-857F-4C510480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C01-1E16-4FC2-B88C-46C3C617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52E3-F43B-43DE-9760-E0A483F4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4691-A8BF-46A2-AF9B-41BC191F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44A6-3FAA-4E00-823F-47E59F8D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FA3F-7882-4EA1-9519-CB0FBE73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3A01-70CB-4A2F-AC4B-DC6F6B30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7B0E-7B45-413E-9874-59105CBA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D442-0848-4750-884A-DEAA72F8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B51-E17A-401B-893F-8A398AB2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3A00-79F4-4E8B-864D-50BD6976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1076-DCE3-49D3-98B2-044E5FD5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B4BA-EE80-4F5F-8822-11B76981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9C02-BB12-4253-BF0D-ABF0DBBB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1FB4-2210-4959-AA9D-55522A70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21695-739A-4516-B1B9-45469771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9F391-0B8D-4979-A786-CA4699E6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C05A-C81A-4A22-9393-E4E11D20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B6FDE-CE4B-41A0-8127-99FF2500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94E98-B874-4720-BF44-07621A9D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751-51EC-4A9A-AA91-6E6F5092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B5B0D-6364-439D-B475-BE7FCAFC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0B8DF-92AE-4B66-BC41-7EE5FDDB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C7D5B-2CBD-4FC2-8D2E-91662E8B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7F69-C728-448F-8F71-E2786561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E5C2B-5906-4889-981F-973B7521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1FADC-5C82-4D53-A750-7BA9DC45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BEF96-8C61-4A47-94B9-71F344E6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07422-1D2A-4DE6-AECC-1503DD45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5EE98-B13D-4EE9-B330-3D239BC5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9A444-0885-4307-A602-46369DD6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4D5C-F703-4FF8-8C94-C27D8898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0C2A5-D077-46B6-B673-3D183870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5EE49-023A-4681-9D30-7C1F7E0A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7077A-CFCF-4AAB-BAAF-5CF517FC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412E7-B8F2-4029-95AE-972B9E61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CB42C-7D7C-4F11-A2CC-E5D36CF3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E9EC3-D42A-4D73-A993-17342242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2DA81-F697-4A0F-9323-26A79FFF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02F52-C6C6-41F1-8A41-DE7D1234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342A3-D2B4-443B-B7F1-A224E901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529BB-816F-4C1A-922B-8D3F5078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F7F-686B-4F71-B167-E0424B91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5BA0B-BC7F-4336-BFBF-9C4D1C56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356BC-8631-40DF-A87D-13AB1F04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7042E-3A5B-4216-9167-3D49AD98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F85DA-F013-4543-961B-17A78173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A4EAF-78DD-4845-A57E-507EDD6E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28EC7-42A6-4F9C-9F04-664708D3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61FE4-5960-461A-BCB5-946EEF34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0812F-7378-4C04-BE88-6C9C391A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A868F-185A-49BE-9640-EE8AD1A5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095D9-86DF-437D-9CBB-F0C8C913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DBB-2F57-41F6-B20D-9721FF9E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A6A9E-F331-4FB1-B37E-45CF1C86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F99E7-FF45-4155-93C7-D75A1CB2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51CC5-A84D-4262-9C31-129F5BD3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E6812-1520-4D18-86A4-FF75D1E3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AAC34-1EB4-45BD-B111-4DB9DEDD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2DF05-B436-427D-8946-092717BF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71209-B115-461F-BC89-117DD2B7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0CB4E-E956-4324-9063-4DCF2143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22516-B0A4-40A6-AC29-54E6EE3D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94113-CF13-46E7-934E-92945385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881-598D-4ABA-82FC-00041557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8E101-368E-4440-8EC9-ECBE1E80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24EF0-A016-48AB-ACAD-18415CAA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314C9-AB06-4ACC-AE91-ABB63CE5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4B6CB-E393-465E-BF67-194C143E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1ECB8-F783-4D96-9919-5FC8C62F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3499C-1960-42F4-AC2F-45A2A495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2F408-194E-4FDF-8CB1-0E0C7F26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267F6-47A9-4E7C-8EF7-D5E91700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AE5A4-1747-4110-B703-537C67CB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4BD7D-0DBC-4C6C-AB2C-007978EA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EFE-26B0-4580-9E91-EC8159E4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3CA5D-EEF6-4C37-893E-920A8CA5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C1DC9-3216-44DB-A31A-5E3EAFF5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6781B-202E-43F6-82C6-6AEA8B29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60608-967F-4454-8697-03562D50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F2A37-FA66-4C2C-A998-4340606D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0BA-192A-4DD6-9936-B9D2BF58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773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d43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0af7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021A-17AA-4925-BFDA-E82DA938975A}" type="slidenum">
              <a:rPr b="0" lang="en-GB" sz="1200" spc="-1" strike="noStrike">
                <a:solidFill>
                  <a:srgbClr val="d0a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773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d43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0af7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CF4F-7D4E-4FF1-B912-84BE36E29F3B}" type="slidenum">
              <a:rPr b="0" lang="en-GB" sz="1200" spc="-1" strike="noStrike">
                <a:solidFill>
                  <a:srgbClr val="d0a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773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dd8047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dd8047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0583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3593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70583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70583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d43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0af7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574A-B740-42CD-90CC-F71DA9C30062}" type="slidenum">
              <a:rPr b="0" lang="en-GB" sz="1200" spc="-1" strike="noStrike">
                <a:solidFill>
                  <a:srgbClr val="d0a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773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d43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0af7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DF66-16BF-41DD-A9A3-3EE0496FAD31}" type="slidenum">
              <a:rPr b="0" lang="en-GB" sz="1200" spc="-1" strike="noStrike">
                <a:solidFill>
                  <a:srgbClr val="d0a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773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70583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d43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0af7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F365-8144-4AC3-8086-8EFBE64FF864}" type="slidenum">
              <a:rPr b="0" lang="en-GB" sz="1200" spc="-1" strike="noStrike">
                <a:solidFill>
                  <a:srgbClr val="d0a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773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d43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0af7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C99F-95D4-4E20-8AEA-2C516D45F9CF}" type="slidenum">
              <a:rPr b="0" lang="en-GB" sz="1200" spc="-1" strike="noStrike">
                <a:solidFill>
                  <a:srgbClr val="d0a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773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5a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03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a17b35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d43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dd804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5ab8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a17b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17b35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d0af72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17b35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0af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D754-1F0D-4658-81A8-E4FA889285B7}" type="slidenum">
              <a:rPr b="0" lang="en-GB" sz="1200" spc="-1" strike="noStrike">
                <a:solidFill>
                  <a:srgbClr val="d0a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17b35"/>
                </a:solidFill>
                <a:latin typeface="Corbel"/>
              </a:rPr>
              <a:t>Wilfred Owen</a:t>
            </a:r>
            <a:endParaRPr b="0" lang="en-US" sz="2000" spc="-1" strike="noStrike">
              <a:solidFill>
                <a:srgbClr val="a17b35"/>
              </a:solidFill>
              <a:latin typeface="Corbel"/>
            </a:endParaRPr>
          </a:p>
        </p:txBody>
      </p:sp>
      <p:pic>
        <p:nvPicPr>
          <p:cNvPr id="370" name="Picture 3" descr="2000YardStare.jpg"/>
          <p:cNvPicPr/>
          <p:nvPr/>
        </p:nvPicPr>
        <p:blipFill>
          <a:blip r:embed="rId2"/>
          <a:stretch/>
        </p:blipFill>
        <p:spPr>
          <a:xfrm>
            <a:off x="5148360" y="404640"/>
            <a:ext cx="3574800" cy="374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bd43"/>
                </a:solidFill>
                <a:latin typeface="Consolas"/>
              </a:rPr>
              <a:t>Contex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World War I (1914-1918)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Trench warfare.</a:t>
            </a: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Use of chlorine &amp; mustard gas.</a:t>
            </a: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</p:txBody>
      </p:sp>
      <p:pic>
        <p:nvPicPr>
          <p:cNvPr id="373" name="Picture 3" descr="trench.jpg"/>
          <p:cNvPicPr/>
          <p:nvPr/>
        </p:nvPicPr>
        <p:blipFill>
          <a:blip r:embed="rId1"/>
          <a:srcRect l="17325" t="0" r="0" b="0"/>
          <a:stretch/>
        </p:blipFill>
        <p:spPr>
          <a:xfrm>
            <a:off x="5867280" y="1484280"/>
            <a:ext cx="3276720" cy="2857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WWI_gas_mask.png"/>
          <p:cNvPicPr/>
          <p:nvPr/>
        </p:nvPicPr>
        <p:blipFill>
          <a:blip r:embed="rId2"/>
          <a:srcRect l="0" t="0" r="0" b="21222"/>
          <a:stretch/>
        </p:blipFill>
        <p:spPr>
          <a:xfrm>
            <a:off x="6084720" y="4797360"/>
            <a:ext cx="1738440" cy="2060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green-smoke-800x600-300x225.jpg"/>
          <p:cNvPicPr/>
          <p:nvPr/>
        </p:nvPicPr>
        <p:blipFill>
          <a:blip r:embed="rId3"/>
          <a:stretch/>
        </p:blipFill>
        <p:spPr>
          <a:xfrm>
            <a:off x="2316240" y="4718160"/>
            <a:ext cx="2450880" cy="36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bd43"/>
                </a:solidFill>
                <a:latin typeface="Consolas"/>
              </a:rPr>
              <a:t>Context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5564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The Author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An English poet who fought in WWI.</a:t>
            </a: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Killed in combat, aged 25, just 7 days before the war ended.</a:t>
            </a: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His writing was a complete contrast to other war poetry at that time, which was very </a:t>
            </a:r>
            <a:br>
              <a:rPr sz="2600"/>
            </a:b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patriotic, idealistic and motivational.</a:t>
            </a: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pic>
        <p:nvPicPr>
          <p:cNvPr id="378" name="Picture 3" descr="poet-owen.jpg"/>
          <p:cNvPicPr/>
          <p:nvPr/>
        </p:nvPicPr>
        <p:blipFill>
          <a:blip r:embed="rId1"/>
          <a:stretch/>
        </p:blipFill>
        <p:spPr>
          <a:xfrm>
            <a:off x="6804000" y="260280"/>
            <a:ext cx="2122560" cy="2122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flag.jpg"/>
          <p:cNvPicPr/>
          <p:nvPr/>
        </p:nvPicPr>
        <p:blipFill>
          <a:blip r:embed="rId2"/>
          <a:stretch/>
        </p:blipFill>
        <p:spPr>
          <a:xfrm>
            <a:off x="5148360" y="4633920"/>
            <a:ext cx="1415880" cy="2224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ww1.jpg"/>
          <p:cNvPicPr/>
          <p:nvPr/>
        </p:nvPicPr>
        <p:blipFill>
          <a:blip r:embed="rId3"/>
          <a:stretch/>
        </p:blipFill>
        <p:spPr>
          <a:xfrm>
            <a:off x="1403280" y="5013360"/>
            <a:ext cx="3268800" cy="1677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poster point.jpg"/>
          <p:cNvPicPr/>
          <p:nvPr/>
        </p:nvPicPr>
        <p:blipFill>
          <a:blip r:embed="rId4"/>
          <a:stretch/>
        </p:blipFill>
        <p:spPr>
          <a:xfrm>
            <a:off x="7236000" y="4017960"/>
            <a:ext cx="1908000" cy="284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bd43"/>
                </a:solidFill>
                <a:latin typeface="Consolas"/>
              </a:rPr>
              <a:t>Techniques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Imagery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Word Choice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Similes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Alliteration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Onomatopoeia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pic>
        <p:nvPicPr>
          <p:cNvPr id="384" name="Picture 3" descr="SussexDSCF1967300web.jpg"/>
          <p:cNvPicPr/>
          <p:nvPr/>
        </p:nvPicPr>
        <p:blipFill>
          <a:blip r:embed="rId1"/>
          <a:stretch/>
        </p:blipFill>
        <p:spPr>
          <a:xfrm>
            <a:off x="5724360" y="476280"/>
            <a:ext cx="2857680" cy="20098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1.jpg"/>
          <p:cNvPicPr/>
          <p:nvPr/>
        </p:nvPicPr>
        <p:blipFill>
          <a:blip r:embed="rId2"/>
          <a:stretch/>
        </p:blipFill>
        <p:spPr>
          <a:xfrm>
            <a:off x="5940360" y="3213000"/>
            <a:ext cx="2395440" cy="324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bd43"/>
                </a:solidFill>
                <a:latin typeface="Consolas"/>
              </a:rPr>
              <a:t>The Poem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pic>
        <p:nvPicPr>
          <p:cNvPr id="387" name="Poem Video.wmv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bd43"/>
                </a:solidFill>
                <a:latin typeface="Consolas"/>
              </a:rPr>
              <a:t>The Task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0af72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Choose a line from the poem.</a:t>
            </a:r>
            <a:br>
              <a:rPr sz="3000"/>
            </a:b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0af72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What images come to mind when you read the line?</a:t>
            </a:r>
            <a:br>
              <a:rPr sz="3000"/>
            </a:b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0af72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Using your chosen method, create an A4 display representing your interpretation of the line.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pic>
        <p:nvPicPr>
          <p:cNvPr id="390" name="Picture 3" descr="wn15-14b.jpg"/>
          <p:cNvPicPr/>
          <p:nvPr/>
        </p:nvPicPr>
        <p:blipFill>
          <a:blip r:embed="rId1"/>
          <a:stretch/>
        </p:blipFill>
        <p:spPr>
          <a:xfrm>
            <a:off x="6875640" y="260280"/>
            <a:ext cx="1760400" cy="2349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imag0492.jpg"/>
          <p:cNvPicPr/>
          <p:nvPr/>
        </p:nvPicPr>
        <p:blipFill>
          <a:blip r:embed="rId2"/>
          <a:stretch/>
        </p:blipFill>
        <p:spPr>
          <a:xfrm>
            <a:off x="4140360" y="5448240"/>
            <a:ext cx="248904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bd43"/>
                </a:solidFill>
                <a:latin typeface="Consolas"/>
              </a:rPr>
              <a:t>Some Ideas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Collage of magazine / </a:t>
            </a:r>
            <a:br>
              <a:rPr sz="3000"/>
            </a:b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newspaper images.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Drawings or sketches.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Web content: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Images</a:t>
            </a: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Research/articles</a:t>
            </a: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17b35"/>
                </a:solidFill>
                <a:latin typeface="Corbel"/>
              </a:rPr>
              <a:t>Word clouds</a:t>
            </a: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d8047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a17b35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0af72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17b35"/>
                </a:solidFill>
                <a:latin typeface="Corbel"/>
              </a:rPr>
              <a:t>Any other method you can think of.</a:t>
            </a:r>
            <a:endParaRPr b="0" lang="en-US" sz="3000" spc="-1" strike="noStrike">
              <a:solidFill>
                <a:srgbClr val="a17b35"/>
              </a:solidFill>
              <a:latin typeface="Corbel"/>
            </a:endParaRPr>
          </a:p>
        </p:txBody>
      </p:sp>
      <p:pic>
        <p:nvPicPr>
          <p:cNvPr id="394" name="Picture 3" descr="collage 2.jpg"/>
          <p:cNvPicPr/>
          <p:nvPr/>
        </p:nvPicPr>
        <p:blipFill>
          <a:blip r:embed="rId1"/>
          <a:stretch/>
        </p:blipFill>
        <p:spPr>
          <a:xfrm>
            <a:off x="5796000" y="189000"/>
            <a:ext cx="2982960" cy="2076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WhenAreTheOthers.jpg"/>
          <p:cNvPicPr/>
          <p:nvPr/>
        </p:nvPicPr>
        <p:blipFill>
          <a:blip r:embed="rId2"/>
          <a:stretch/>
        </p:blipFill>
        <p:spPr>
          <a:xfrm>
            <a:off x="6227640" y="2708280"/>
            <a:ext cx="2124360" cy="30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bd43"/>
                </a:solidFill>
                <a:latin typeface="Consolas"/>
              </a:rPr>
              <a:t>Examples</a:t>
            </a:r>
            <a:endParaRPr b="0" lang="en-US" sz="4000" spc="-1" strike="noStrike">
              <a:solidFill>
                <a:srgbClr val="ffbd43"/>
              </a:solidFill>
              <a:latin typeface="Consolas"/>
            </a:endParaRPr>
          </a:p>
        </p:txBody>
      </p:sp>
      <p:pic>
        <p:nvPicPr>
          <p:cNvPr id="397" name="Picture 3" descr="art2.jpg"/>
          <p:cNvPicPr/>
          <p:nvPr/>
        </p:nvPicPr>
        <p:blipFill>
          <a:blip r:embed="rId1"/>
          <a:stretch/>
        </p:blipFill>
        <p:spPr>
          <a:xfrm>
            <a:off x="324000" y="4154400"/>
            <a:ext cx="2279520" cy="2703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art 1.jpg"/>
          <p:cNvPicPr/>
          <p:nvPr/>
        </p:nvPicPr>
        <p:blipFill>
          <a:blip r:embed="rId2"/>
          <a:stretch/>
        </p:blipFill>
        <p:spPr>
          <a:xfrm>
            <a:off x="6350040" y="0"/>
            <a:ext cx="2793960" cy="2087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explosion-gimp-tutorial.jpg"/>
          <p:cNvPicPr/>
          <p:nvPr/>
        </p:nvPicPr>
        <p:blipFill>
          <a:blip r:embed="rId3"/>
          <a:stretch/>
        </p:blipFill>
        <p:spPr>
          <a:xfrm>
            <a:off x="611280" y="134136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blood_spatter.jpg"/>
          <p:cNvPicPr/>
          <p:nvPr/>
        </p:nvPicPr>
        <p:blipFill>
          <a:blip r:embed="rId4"/>
          <a:srcRect l="0" t="0" r="13299" b="0"/>
          <a:stretch/>
        </p:blipFill>
        <p:spPr>
          <a:xfrm>
            <a:off x="7308720" y="2421000"/>
            <a:ext cx="1835280" cy="13809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call-of-duty-2.jpg"/>
          <p:cNvPicPr/>
          <p:nvPr/>
        </p:nvPicPr>
        <p:blipFill>
          <a:blip r:embed="rId5"/>
          <a:stretch/>
        </p:blipFill>
        <p:spPr>
          <a:xfrm>
            <a:off x="3203640" y="260280"/>
            <a:ext cx="2747880" cy="2060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9" descr="110199-bigthumbnail.jpg"/>
          <p:cNvPicPr/>
          <p:nvPr/>
        </p:nvPicPr>
        <p:blipFill>
          <a:blip r:embed="rId6"/>
          <a:stretch/>
        </p:blipFill>
        <p:spPr>
          <a:xfrm>
            <a:off x="2627280" y="5095800"/>
            <a:ext cx="2346480" cy="17622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BarbedWire02.jpg"/>
          <p:cNvPicPr/>
          <p:nvPr/>
        </p:nvPicPr>
        <p:blipFill>
          <a:blip r:embed="rId7"/>
          <a:stretch/>
        </p:blipFill>
        <p:spPr>
          <a:xfrm>
            <a:off x="5076720" y="5433840"/>
            <a:ext cx="2127240" cy="14241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collage 3.JPG"/>
          <p:cNvPicPr/>
          <p:nvPr/>
        </p:nvPicPr>
        <p:blipFill>
          <a:blip r:embed="rId8"/>
          <a:stretch/>
        </p:blipFill>
        <p:spPr>
          <a:xfrm>
            <a:off x="1908000" y="2852640"/>
            <a:ext cx="3500640" cy="1965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2" descr="word cloud.jpg"/>
          <p:cNvPicPr/>
          <p:nvPr/>
        </p:nvPicPr>
        <p:blipFill>
          <a:blip r:embed="rId9"/>
          <a:stretch/>
        </p:blipFill>
        <p:spPr>
          <a:xfrm>
            <a:off x="4140360" y="3716280"/>
            <a:ext cx="3160440" cy="1825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ww1 mad brute poster.jpg"/>
          <p:cNvPicPr/>
          <p:nvPr/>
        </p:nvPicPr>
        <p:blipFill>
          <a:blip r:embed="rId10"/>
          <a:stretch/>
        </p:blipFill>
        <p:spPr>
          <a:xfrm>
            <a:off x="7192800" y="4005360"/>
            <a:ext cx="1951200" cy="2852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3" descr="War Collage.JPG"/>
          <p:cNvPicPr/>
          <p:nvPr/>
        </p:nvPicPr>
        <p:blipFill>
          <a:blip r:embed="rId11"/>
          <a:stretch/>
        </p:blipFill>
        <p:spPr>
          <a:xfrm>
            <a:off x="5003640" y="1844640"/>
            <a:ext cx="2649600" cy="198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4:16:37Z</dcterms:created>
  <dc:creator> </dc:creator>
  <dc:description/>
  <dc:language>en-US</dc:language>
  <cp:lastModifiedBy> </cp:lastModifiedBy>
  <dcterms:modified xsi:type="dcterms:W3CDTF">2011-09-23T09:26:19Z</dcterms:modified>
  <cp:revision>21</cp:revision>
  <dc:subject/>
  <dc:title>Dulce Et Decorum Est</dc:title>
</cp:coreProperties>
</file>